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E50-6540-4FF7-8932-9206914D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8CC-FA5C-41DC-8F68-FA58C70A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F7A-0856-43C7-90EF-F223BFFE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35E-A5A6-4655-8B30-42BC5009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D00-C527-4C90-8D23-E35CFB7A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1A3-8779-43AB-B0C5-B85A285F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A52-D57D-4F91-A45D-91C8F180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48C-EEB6-4E25-8D2F-7AEA3151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C62-136B-49E1-AD8D-9EF19D4A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8DC-BA31-4902-B05F-7E802319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BA6-A673-417E-944E-DD6A5005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5FC-02EA-4CB0-B732-29AB0D1B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5A1D-F4CE-468B-8F24-A94D1A497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55008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709920" cy="709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5:05Z</dcterms:modified>
  <cp:revision>33</cp:revision>
  <dc:subject/>
  <dc:title>SALARIUL</dc:title>
</cp:coreProperties>
</file>